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AB6A-33D7-4651-BCFB-0B608D2F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B0AD-D715-402C-B384-FE4AD965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2B57-3176-4B4D-A4DF-BF8AE9D45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CFC3-EBDA-48D8-A79E-B01E07052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F26C-30AA-46DA-B299-97948A01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D332-C6BF-4081-8BDC-BDB3C4D6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69D9-D6B8-465E-B227-6E11F3F3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4620-2DD6-4C5B-BA6E-A9E9B294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29BD-B823-47F2-8905-6FA8E152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3C0B-0323-4B21-A7F8-D5DAD252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0F5F-D91C-4D89-B410-A514AB31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E0D2-1FDE-421E-8328-6BC3F510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2EEE-1B5B-4DEB-A2CA-BA3EDC987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88 Posvät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d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obotný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osvätiť deň sobot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ikázal nám Hospodi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eď on sám ho oddel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ožehnal a posvätil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i ja prácu odklad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ô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u B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u v úcte mám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icho vôkol, svätý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aznieva k nám Pánov hlas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šetci, čo ste znaven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íďte, ja vás občerství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vodu živú chcem vám d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mannu z neba darova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žne volá Boží Syn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klesaj pod ťarchou vín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ojou krvou máš i t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aždý svoj hriech obmyt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a mnou poď, ja dať ti chc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ý domov, novú z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Príď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,</a:t>
            </a:r>
            <a:r>
              <a:rPr b="1" lang="en-US" sz="3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Duch</a:t>
            </a:r>
            <a:r>
              <a:rPr b="1" lang="en-US" sz="38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Svätý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,</a:t>
            </a:r>
            <a:r>
              <a:rPr b="1" lang="en-US" sz="38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so</a:t>
            </a:r>
            <a:r>
              <a:rPr b="1" lang="en-US" sz="38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mnou</a:t>
            </a:r>
            <a:r>
              <a:rPr b="1" lang="en-US" sz="38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b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uď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,</a:t>
            </a:r>
            <a:br>
              <a:rPr sz="44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áskou naplň srdce, hru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ojou mocou pri mne st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ernosť daj i pokoj svoj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raz môžem, kde si t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e sláv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oboty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8:16:41Z</dcterms:modified>
  <cp:revision>22</cp:revision>
  <dc:subject/>
  <dc:title>Je veľký náš Pán, on slávy je Kráľ Nech do všetkých strán  spev vrúcnych znie chvál.</dc:title>
</cp:coreProperties>
</file>